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F4E8-6EEA-4E3C-ABA8-571EC866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9C48-8EB2-4857-A97E-7B4B22DD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15D7-AEAC-4CE8-8349-63AC05397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1646-09FC-4654-BE14-D35BBE504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9505-B4C6-4B5B-A565-F02AC496E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D6D1-9A16-4410-976C-4FC01B7F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971B-02AB-4AC1-94D6-531DF6AD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F297-5121-4F38-8128-F3089A6B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821A-BCC8-4BE3-BB6B-38156EF8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E2EC-1124-4EC2-A10F-585BD859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E20E-B88F-4BC3-9301-8D79F69B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7C1C-6996-464B-A64A-D2840F1C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8310-32F6-4F92-9BD9-0F2FFD5D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A010-AEC7-497A-98BF-4E1AAE6B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3E71-A532-4533-B249-8180A633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8D85-E300-422E-BEB0-09651B66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8DFA-28F3-4FE3-BFA9-EC7FC70D8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F6D5-1D38-41B6-9FCD-171AEBCA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F763-1101-4CCE-8932-679C5484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1C12-E374-44BB-B32C-92B538EF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23E7-1BDB-474C-88DB-7806146A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1C8B-1E8A-44FD-AF35-D01E2F6A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6715-FC13-4B9E-9A13-32690960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E669-111E-4707-A878-F3D4FD8F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2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3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600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af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600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0A2D-759E-4842-A5EB-84CC07C75FA8}" type="slidenum"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2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3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600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4EE7-BA25-494C-A646-97D93D28AF8C}" type="slidenum"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6000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afa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Open Language Archives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95280" y="3492000"/>
            <a:ext cx="7493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teven Bird, University of Pennsylvania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Gary Simons, SIL Internationa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7333-C076-48EC-A3A8-EF1E257C8A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7520" y="719640"/>
            <a:ext cx="8445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Linguistic Data Consortium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Data for new language technologies: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ASR, NLP, MT, IR, TREC, MUC, TDT, …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~200 CD-ROM publications (largest 82 CDs)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&gt;1 terabyte of audio data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E.g. SWITCHBOARD Corpu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2400 transcribed telephone calls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Distributed on 26 CDs (web is inappropriate)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33"/>
                </a:solidFill>
                <a:uFillTx/>
                <a:latin typeface="Arial"/>
              </a:rPr>
              <a:t>Published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, ISBN, distribution mechanism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31F7-5B57-4872-AE41-ADCD66E726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ACL Natural Language Software Repository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Hosted by the German Foundation for AI (DFKI)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Software metadata: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Author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Functionality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Linguistic datatype (e.g. lexicon)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File format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availability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URL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FBDF-3200-48DB-B78C-F87D43B692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Taking Stock: Resource Types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Sound recording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Shoebox of hand-written index card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Descriptive grammar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Software for creating, storing, querying and viewing language data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Formats for storage and interchange (e.g. TEI)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ADVICE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Mailing list archives, FAQ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01FA-1901-41E1-B845-33DAF33695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Taking Stock: The Community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Linguist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&gt;13,000 members of LINGUIST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Ethnologue &gt;500,000 page hits / month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Engineer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~1,000 organizations which buy LDC resource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Language teacher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Archivist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oftware developer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83BA-2C24-45F6-97B7-1D7C9D7456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Endangered language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Preserving languages before they die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Endangered data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Saving old recordings before they disintegrate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Best practice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Creating new data using XML and Unicode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inding aid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Locating resources (mailing lists)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3AC9-8C27-4F8F-AFC6-2040BED1BD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Finding Aids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Goal: “bringing like things together and differentiating among them” (Svenonius)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raditional databases versus the web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Metadata is coherent, but highly distributed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We need a middle ground: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Bottom-up, distributed initiatives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Consistent, centralized finding aids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58C6-642C-46C9-8216-470B114500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Language Archives within the OAI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pecialist communities can define their own metadata format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rvice providers can exploit the metadata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Philadelphia Workshop (December 2000)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linguists, anthropologists, archivists, engineers, funding agencies, publisher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North America, South America, Europe, Middle-East, Africa, Asia, Australia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Commitment to implement OAI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85F3-27BE-4F9C-BF34-055D4592A7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5321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Structure of OLAC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hree groups: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Advisory board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Member archives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Participating data providers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hree phases: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Alpha test [Dec 2000]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Pilot [Fall 2001]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Operational [Fall 2002]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40" name="olac200" descr=""/>
          <p:cNvPicPr/>
          <p:nvPr/>
        </p:nvPicPr>
        <p:blipFill>
          <a:blip r:embed="rId1"/>
          <a:stretch/>
        </p:blipFill>
        <p:spPr>
          <a:xfrm>
            <a:off x="6324480" y="304920"/>
            <a:ext cx="228600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601B-A36B-4E82-A1E9-382495D18C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Primary Service Provider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86200" y="1941480"/>
            <a:ext cx="465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Eastern Michigan Univ</a:t>
            </a:r>
            <a:br>
              <a:rPr sz="3200"/>
            </a:b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&amp; Wayne State Univ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unded by NSF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Arial"/>
              </a:rPr>
              <a:t>&gt;13,000 members</a:t>
            </a:r>
            <a:endParaRPr b="0" lang="en-US" sz="36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Arial"/>
              </a:rPr>
              <a:t>Complete union catalog</a:t>
            </a:r>
            <a:endParaRPr b="0" lang="en-US" sz="36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43" name="linguist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2629080" cy="26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E3DF-1FF6-4A5E-9BBE-EC449FD66A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A Community defined by its metadata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OPEN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Rights.opennes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Format.opennes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LANGUAGE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Encoding scheme: RFC 1766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Subject.language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Type.data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Type.functionality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AE87-FF5A-4080-8527-7E80F4BD31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6069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The World’s Languages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pic>
        <p:nvPicPr>
          <p:cNvPr id="91" name="lang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150040" cy="500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442C-EB38-45CA-AB6F-63BDA9CEC9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Language Identification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Existing standards (ISO 639, RFC 1766)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incomplete: 7% coverage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inconsistent: e.g. Quechua, Bantu (other)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Undocumented: only gives a name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Issues to be addressed: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Impossible to create a static inventory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Multiple names for a language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E.g. ANLC: </a:t>
            </a:r>
            <a:r>
              <a:rPr b="0" lang="en-US" sz="2400" spc="-1" strike="noStrike" u="sng">
                <a:solidFill>
                  <a:srgbClr val="660033"/>
                </a:solidFill>
                <a:uFillTx/>
                <a:latin typeface="Arial"/>
              </a:rPr>
              <a:t>Gwich’in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 versus </a:t>
            </a:r>
            <a:r>
              <a:rPr b="0" lang="en-US" sz="2400" spc="-1" strike="noStrike" u="sng">
                <a:solidFill>
                  <a:srgbClr val="660033"/>
                </a:solidFill>
                <a:uFillTx/>
                <a:latin typeface="Arial"/>
              </a:rPr>
              <a:t>Kutchin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F427-255C-4DEF-9F96-984D1B8175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759600"/>
            <a:ext cx="6046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SIL Ethnologue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The only complete language identification scheme openly available on the web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For each of 6,800 languages: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Language name and variants, 3-letter code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Population, location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Linguistic classification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Dialects, alternative names for dialect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Notes on language use and available literature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50" name="sil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743040" cy="74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DB4B-912A-4852-839E-9B268C70C0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Progress on Data Providers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Linguistic Data Consortium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European Language Resources Assocation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German Foundation for AI (DFKI)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SIL International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Perseus Project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Alaska Native Language Center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LACITO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CBOLD: Comparative Bantu Online Lexical Database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D68C-9770-4357-AA0E-4359CDB9BD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LDC Prototype Service Provider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Harvests data from LDC, ELRA, DFKI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Query for “language=Bulgarian”: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3124080"/>
          <a:ext cx="8077320" cy="3011760"/>
        </p:xfrm>
        <a:graphic>
          <a:graphicData uri="http://schemas.openxmlformats.org/drawingml/2006/table">
            <a:tbl>
              <a:tblPr/>
              <a:tblGrid>
                <a:gridCol w="2209680"/>
                <a:gridCol w="586764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oai:ldc:LDC95T5</a:t>
                      </a:r>
                      <a:endParaRPr b="0" lang="en-US" sz="20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0033"/>
                      </a:solidFill>
                    </a:lnR>
                    <a:lnT>
                      <a:noFill/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ECI Multilingual Text</a:t>
                      </a:r>
                      <a:endParaRPr b="0" lang="en-US" sz="20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Lang: Albanian, </a:t>
                      </a:r>
                      <a:r>
                        <a:rPr b="1" lang="en-US" sz="2000" spc="-1" strike="noStrike" u="sng">
                          <a:solidFill>
                            <a:srgbClr val="660033"/>
                          </a:solidFill>
                          <a:uFillTx/>
                          <a:latin typeface="Arial"/>
                        </a:rPr>
                        <a:t>Bulgarian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, Chinese, Czech, …</a:t>
                      </a:r>
                      <a:endParaRPr b="0" lang="en-US" sz="20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Applications: IR, MT, LM</a:t>
                      </a:r>
                      <a:endParaRPr b="0" lang="en-US" sz="20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oai:elra:L0030</a:t>
                      </a:r>
                      <a:endParaRPr b="0" lang="en-US" sz="20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Bulgarian Morphological Dictionary</a:t>
                      </a:r>
                      <a:endParaRPr b="0" lang="en-US" sz="20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Lang: </a:t>
                      </a:r>
                      <a:r>
                        <a:rPr b="1" lang="en-US" sz="2000" spc="-1" strike="noStrike" u="sng">
                          <a:solidFill>
                            <a:srgbClr val="660033"/>
                          </a:solidFill>
                          <a:uFillTx/>
                          <a:latin typeface="Arial"/>
                        </a:rPr>
                        <a:t>Bulgarian</a:t>
                      </a:r>
                      <a:endParaRPr b="0" lang="en-US" sz="20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67,500 entries, 242 inflectional types, …</a:t>
                      </a:r>
                      <a:endParaRPr b="0" lang="en-US" sz="20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33"/>
                      </a:solidFill>
                    </a:lnL>
                    <a:lnR>
                      <a:noFill/>
                    </a:lnR>
                    <a:lnT w="576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oai:dfki:KPML</a:t>
                      </a:r>
                      <a:endParaRPr b="0" lang="en-US" sz="20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Grammar development workbench</a:t>
                      </a:r>
                      <a:endParaRPr b="0" lang="en-US" sz="20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Lang: Spanish, Russian, Japanese, </a:t>
                      </a:r>
                      <a:r>
                        <a:rPr b="1" lang="en-US" sz="2000" spc="-1" strike="noStrike" u="sng">
                          <a:solidFill>
                            <a:srgbClr val="660033"/>
                          </a:solidFill>
                          <a:uFillTx/>
                          <a:latin typeface="Arial"/>
                        </a:rPr>
                        <a:t>Bulgarian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, …</a:t>
                      </a:r>
                      <a:endParaRPr b="0" lang="en-US" sz="20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33"/>
                      </a:solidFill>
                    </a:lnL>
                    <a:lnR>
                      <a:noFill/>
                    </a:lnR>
                    <a:lnT w="5760">
                      <a:solidFill>
                        <a:srgbClr val="660033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6347-2A67-48EA-9BFB-2406005BA0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Our Experience with the OAI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Experience of OLAC alpha testers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Harvesting protocol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Dublin Core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OAI support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Specialized metadata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OAI representative at our meeting (Michael Nelson)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Solves our problem with cataloging distributed, dynamic resource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5BD5-6E07-43D1-B9C3-E88F4362E0C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Challenges ahead…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Large legacy catalog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cleansing and exporting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hierarchical collections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Overlap with other OAI group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e-prints &amp; digital museums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OAI as a springboard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digitization of legacy data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formats for access in perpetuity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5CA0-3B1E-461B-90B2-6917054D611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Countries with &gt;150 languages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402732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New Guinea: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823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Indonesia: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726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Nigeria: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505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India: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387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Mexico: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288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Cameroon: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279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495680" y="2285640"/>
            <a:ext cx="402912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Australia: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235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Congo (DRC):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218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China (PRC):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201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Brazil: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192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USA: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176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Philippines: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169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D97D-B436-44F5-AFFD-015C17BFCE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Major Language Archives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American Philosophical Society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Wordlists, texts, manuscripts, audio; 200 languages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National Anthropological Archive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manuscripts, field-notes, photographs, maps, video 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1,300 recordings of myths, legends, stories, songs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Perseus Project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&gt;70 million words of Greek, Latin, English, Italian, German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Aboriginal Studies Electronic Data Archive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texts, dictionaries, grammars and teaching materials 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300 Australian languages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D246-E694-42BB-8EFA-D4D26C2A10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683640"/>
            <a:ext cx="863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Major European Archives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1905120"/>
            <a:ext cx="820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Germany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IDS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: Instit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  <a:ea typeface="Arial"/>
              </a:rPr>
              <a:t>ü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t f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  <a:ea typeface="Arial"/>
              </a:rPr>
              <a:t>ü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r Deutsche Sprache (Mannheim)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BAS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: Bavarian Archive of Speech (Munich)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France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INALF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: Institute National 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  <a:ea typeface="Arial"/>
              </a:rPr>
              <a:t>à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 Langue Fran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  <a:ea typeface="Arial"/>
              </a:rPr>
              <a:t>ç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ais (Paris)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LACITO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: Langues et Cultures 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  <a:ea typeface="Arial"/>
              </a:rPr>
              <a:t>à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 Tradition Orale (Paris)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United Kingdom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OTA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: Oxford Text Archive (Oxford)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Many others …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B229-5D22-47B2-AD0D-E106BEE660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Alaska Native Language Center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95360" y="6064200"/>
          <a:ext cx="261720" cy="1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6064200"/>
                    <a:ext cx="26172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08280" y="1941480"/>
            <a:ext cx="4028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Founded in 1972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20 native languages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10,000 documents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Text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Ethnographie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Place name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Lexicon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3,000 recordings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03" name="anlc" descr=""/>
          <p:cNvPicPr/>
          <p:nvPr/>
        </p:nvPicPr>
        <p:blipFill>
          <a:blip r:embed="rId3"/>
          <a:srcRect l="22670" t="0" r="5337" b="0"/>
          <a:stretch/>
        </p:blipFill>
        <p:spPr>
          <a:xfrm>
            <a:off x="228600" y="2286000"/>
            <a:ext cx="4114800" cy="36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24FD-C6DD-4AEA-9BFD-0877A23DBE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6832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An ANLC Record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04920" y="1944720"/>
          <a:ext cx="8208720" cy="4089240"/>
        </p:xfrm>
        <a:graphic>
          <a:graphicData uri="http://schemas.openxmlformats.org/drawingml/2006/table">
            <a:tbl>
              <a:tblPr/>
              <a:tblGrid>
                <a:gridCol w="2262240"/>
                <a:gridCol w="59464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Title:</a:t>
                      </a:r>
                      <a:endParaRPr b="0" lang="en-US" sz="2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33"/>
                      </a:solidFill>
                    </a:lnL>
                    <a:lnR w="576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Gwich’in Wordlist</a:t>
                      </a:r>
                      <a:endParaRPr b="0" lang="en-US" sz="2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Author:</a:t>
                      </a:r>
                      <a:endParaRPr b="0" lang="en-US" sz="2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33"/>
                      </a:solidFill>
                    </a:lnL>
                    <a:lnR w="576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Zimmerman, Herbert</a:t>
                      </a:r>
                      <a:endParaRPr b="0" lang="en-US" sz="2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Date:</a:t>
                      </a:r>
                      <a:endParaRPr b="0" lang="en-US" sz="2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33"/>
                      </a:solidFill>
                    </a:lnL>
                    <a:lnR w="576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959</a:t>
                      </a:r>
                      <a:endParaRPr b="0" lang="en-US" sz="2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Language:</a:t>
                      </a:r>
                      <a:endParaRPr b="0" lang="en-US" sz="2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33"/>
                      </a:solidFill>
                    </a:lnL>
                    <a:lnR w="576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Gwich’in</a:t>
                      </a:r>
                      <a:endParaRPr b="0" lang="en-US" sz="2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Format:</a:t>
                      </a:r>
                      <a:endParaRPr b="0" lang="en-US" sz="2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33"/>
                      </a:solidFill>
                    </a:lnL>
                    <a:lnR w="576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Non-digital</a:t>
                      </a:r>
                      <a:endParaRPr b="0" lang="en-US" sz="2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Description:</a:t>
                      </a:r>
                      <a:endParaRPr b="0" lang="en-US" sz="2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33"/>
                      </a:solidFill>
                    </a:lnL>
                    <a:lnR w="576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MS, 75pp</a:t>
                      </a:r>
                      <a:endParaRPr b="0" lang="en-US" sz="2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Description:</a:t>
                      </a:r>
                      <a:endParaRPr b="0" lang="en-US" sz="2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33"/>
                      </a:solidFill>
                    </a:lnL>
                    <a:lnR w="576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400 items based on SIL schedule</a:t>
                      </a:r>
                      <a:endParaRPr b="0" lang="en-US" sz="2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6" name=""/>
          <p:cNvGrpSpPr/>
          <p:nvPr/>
        </p:nvGrpSpPr>
        <p:grpSpPr>
          <a:xfrm>
            <a:off x="3962520" y="1981080"/>
            <a:ext cx="4647960" cy="533520"/>
            <a:chOff x="3962520" y="1981080"/>
            <a:chExt cx="4647960" cy="533520"/>
          </a:xfrm>
        </p:grpSpPr>
        <p:sp>
          <p:nvSpPr>
            <p:cNvPr id="107" name=""/>
            <p:cNvSpPr/>
            <p:nvPr/>
          </p:nvSpPr>
          <p:spPr>
            <a:xfrm>
              <a:off x="3962520" y="1981080"/>
              <a:ext cx="1676160" cy="533520"/>
            </a:xfrm>
            <a:prstGeom prst="ellipse">
              <a:avLst/>
            </a:prstGeom>
            <a:noFill/>
            <a:ln w="255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5638680" y="2286000"/>
              <a:ext cx="533520" cy="1440"/>
            </a:xfrm>
            <a:prstGeom prst="line">
              <a:avLst/>
            </a:prstGeom>
            <a:ln w="25560">
              <a:solidFill>
                <a:srgbClr val="00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95880" y="205740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cc"/>
                  </a:solidFill>
                  <a:latin typeface="Arial"/>
                </a:rPr>
                <a:t>RESOURCE TYPE?</a:t>
              </a:r>
              <a:endParaRPr b="0" lang="en-US" sz="2000" spc="-1" strike="noStrike">
                <a:solidFill>
                  <a:srgbClr val="660033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514600" y="3276720"/>
            <a:ext cx="4724280" cy="990360"/>
            <a:chOff x="2514600" y="3276720"/>
            <a:chExt cx="4724280" cy="990360"/>
          </a:xfrm>
        </p:grpSpPr>
        <p:sp>
          <p:nvSpPr>
            <p:cNvPr id="111" name=""/>
            <p:cNvSpPr/>
            <p:nvPr/>
          </p:nvSpPr>
          <p:spPr>
            <a:xfrm>
              <a:off x="2514600" y="3733920"/>
              <a:ext cx="1676520" cy="533160"/>
            </a:xfrm>
            <a:prstGeom prst="ellipse">
              <a:avLst/>
            </a:prstGeom>
            <a:noFill/>
            <a:ln w="255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4038480" y="3505320"/>
              <a:ext cx="609840" cy="304560"/>
            </a:xfrm>
            <a:prstGeom prst="line">
              <a:avLst/>
            </a:prstGeom>
            <a:ln w="25560">
              <a:solidFill>
                <a:srgbClr val="00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48320" y="327672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cc"/>
                  </a:solidFill>
                  <a:latin typeface="Arial"/>
                </a:rPr>
                <a:t>LANGUAGE NAME?</a:t>
              </a:r>
              <a:endParaRPr b="0" lang="en-US" sz="2000" spc="-1" strike="noStrike">
                <a:solidFill>
                  <a:srgbClr val="660033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438280" y="4343400"/>
            <a:ext cx="5486400" cy="533520"/>
            <a:chOff x="2438280" y="4343400"/>
            <a:chExt cx="5486400" cy="533520"/>
          </a:xfrm>
        </p:grpSpPr>
        <p:sp>
          <p:nvSpPr>
            <p:cNvPr id="115" name=""/>
            <p:cNvSpPr/>
            <p:nvPr/>
          </p:nvSpPr>
          <p:spPr>
            <a:xfrm>
              <a:off x="2438280" y="4343400"/>
              <a:ext cx="2286000" cy="533520"/>
            </a:xfrm>
            <a:prstGeom prst="ellipse">
              <a:avLst/>
            </a:prstGeom>
            <a:noFill/>
            <a:ln w="255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4723920" y="4648320"/>
              <a:ext cx="838440" cy="1440"/>
            </a:xfrm>
            <a:prstGeom prst="line">
              <a:avLst/>
            </a:prstGeom>
            <a:ln w="25560">
              <a:solidFill>
                <a:srgbClr val="00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62720" y="441972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cc"/>
                  </a:solidFill>
                  <a:latin typeface="Arial"/>
                </a:rPr>
                <a:t>AVAILABILITY?</a:t>
              </a:r>
              <a:endParaRPr b="0" lang="en-US" sz="2000" spc="-1" strike="noStrike">
                <a:solidFill>
                  <a:srgbClr val="660033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AD29-1CFB-416F-845F-526CF25760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American Indian Studies Research Institute, Indiana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858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Interactive language lessons for American Indian language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Multimedia dictionarie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audio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photographic images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20" name="pawnee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2993760" cy="3611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448E-61DD-4E4C-A781-00E0CC16E1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UC Berkeley Survey of Californian Languages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1640" y="1941480"/>
            <a:ext cx="396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90 language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ield note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750 cassette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atalog is an HTML document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ypical…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23" name="ca-survey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3840120" cy="374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5AC7-B6C7-4591-91DD-7F09E208CB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8T21:53:41Z</dcterms:created>
  <dc:creator>Steven Bird</dc:creator>
  <dc:description/>
  <dc:language>en-US</dc:language>
  <cp:lastModifiedBy>Steven Bird</cp:lastModifiedBy>
  <dcterms:modified xsi:type="dcterms:W3CDTF">2001-01-19T09:44:06Z</dcterms:modified>
  <cp:revision>42</cp:revision>
  <dc:subject/>
  <dc:title>Open Language Archives</dc:title>
</cp:coreProperties>
</file>